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8119-918A-4729-8D52-E4928FF9F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85B2-DBA4-4F5B-8274-B063331B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617C-497D-4AA0-8150-E890A1AA2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910A-70F6-4501-BF75-E073DB19E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8496-ED93-47F4-ACB8-E793FC974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27B6-EF29-4AA8-99F7-80163183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3B36-D326-4AE7-89DE-76D19141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E86EB-D411-41C0-8400-837CE7A5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C0D17-1EDB-4F78-A476-0C602B4E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5B75B-2936-483D-ACE8-3FC1C555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5B9E-AF25-4757-8700-63F2532E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81CD-20D6-4C64-8714-A6BC9CCC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FB30-29CF-4802-8EFB-4204F2C0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A3AA-F8EC-477A-B49A-38F99CD7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4C2F-EF20-434C-8FC3-F6C84E6F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9728-1ABB-426E-B628-AD9FA6D2B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9AFB-C21B-458A-98FC-E30929463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8E67-94EB-4E97-BE7A-9AC7161A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1C71-31EB-4295-BA24-4DD6A9F7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0244-21AE-41B3-8AC0-D302A837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B2A9-4478-4DA6-BF39-3EC92948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204D-4E7B-4070-8308-0FD0D976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78B9-4B31-4F38-9DCE-74EEC76D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FED0-4238-44F0-A511-09B3D15C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BA50-82AF-4673-A8DA-688856F3096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855E-B9F3-45DC-B658-19AE01018BA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Monotype Corsiva"/>
              </a:rPr>
              <a:t>Tabla unei opera</a:t>
            </a:r>
            <a:r>
              <a:rPr b="0" lang="ro-RO" sz="5400" spc="-1" strike="noStrike">
                <a:solidFill>
                  <a:srgbClr val="ffffcc"/>
                </a:solidFill>
                <a:latin typeface="Monotype Corsiva"/>
              </a:rPr>
              <a:t>ţ</a:t>
            </a:r>
            <a:r>
              <a:rPr b="0" lang="en-US" sz="5400" spc="-1" strike="noStrike">
                <a:solidFill>
                  <a:srgbClr val="ffffcc"/>
                </a:solidFill>
                <a:latin typeface="Monotype Corsiva"/>
              </a:rPr>
              <a:t>ii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eaeaea"/>
                </a:solidFill>
                <a:latin typeface="Times New Roman"/>
              </a:rPr>
              <a:t>Se aplică pentru legile de compoziţie definite pe mulţimi finit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cc"/>
                </a:solidFill>
                <a:latin typeface="Monotype Corsiva"/>
              </a:rPr>
              <a:t>Noţiuni teoretice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63280" y="1905120"/>
            <a:ext cx="6985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aeaea"/>
                </a:solidFill>
                <a:latin typeface="Times New Roman"/>
              </a:rPr>
              <a:t>Fie </a:t>
            </a:r>
            <a:r>
              <a:rPr b="1" lang="ro-RO" sz="28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ro-RO" sz="2800" spc="-1" strike="noStrike">
                <a:solidFill>
                  <a:srgbClr val="eaeaea"/>
                </a:solidFill>
                <a:latin typeface="Times New Roman"/>
              </a:rPr>
              <a:t> o mulţime. Spunem că operaţia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ro-RO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◦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’ este lege de </a:t>
            </a:r>
            <a:r>
              <a:rPr b="0" lang="ro-RO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ompoziţie definită pe </a:t>
            </a:r>
            <a:r>
              <a:rPr b="1" lang="ro-RO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</a:t>
            </a:r>
            <a:r>
              <a:rPr b="0" lang="ro-RO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x</a:t>
            </a:r>
            <a:r>
              <a:rPr b="1" lang="ro-RO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 </a:t>
            </a:r>
            <a:r>
              <a:rPr b="0" lang="ro-RO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acă oricare ar fi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x </a:t>
            </a:r>
            <a:r>
              <a:rPr b="0" lang="ro-RO" sz="2800" spc="-1" strike="noStrike">
                <a:solidFill>
                  <a:srgbClr val="eaeaea"/>
                </a:solidFill>
                <a:latin typeface="Times New Roman"/>
              </a:rPr>
              <a:t>şi y din </a:t>
            </a:r>
            <a:r>
              <a:rPr b="1" lang="ro-RO" sz="28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ro-RO" sz="28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1" lang="ro-RO" sz="28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o-RO" sz="2800" spc="-1" strike="noStrike">
                <a:solidFill>
                  <a:srgbClr val="eaeaea"/>
                </a:solidFill>
                <a:latin typeface="Times New Roman"/>
              </a:rPr>
              <a:t>avem că x</a:t>
            </a:r>
            <a:r>
              <a:rPr b="0" lang="ro-RO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◦y aparţine lui </a:t>
            </a:r>
            <a:r>
              <a:rPr b="1" lang="ro-RO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</a:t>
            </a:r>
            <a:r>
              <a:rPr b="0" lang="ro-RO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oprietăţi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:</a:t>
            </a:r>
            <a:r>
              <a:rPr b="0" lang="ro-RO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    </a:t>
            </a:r>
            <a:r>
              <a:rPr b="0" lang="ro-RO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-  asociativitate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    </a:t>
            </a:r>
            <a:r>
              <a:rPr b="0" lang="ro-RO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-  comutativitate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    </a:t>
            </a:r>
            <a:r>
              <a:rPr b="0" lang="ro-RO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- element neutr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    </a:t>
            </a:r>
            <a:r>
              <a:rPr b="0" lang="ro-RO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- element simetrizabi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0" y="0"/>
                <a:ext cx="15228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ffffcc"/>
                </a:solidFill>
                <a:latin typeface="Times New Roman"/>
              </a:rPr>
              <a:t>Aplicaţie</a:t>
            </a:r>
            <a:r>
              <a:rPr b="0" lang="ro-RO" sz="2800" spc="-1" strike="noStrike">
                <a:solidFill>
                  <a:srgbClr val="ffffcc"/>
                </a:solidFill>
                <a:latin typeface="Times New Roman"/>
              </a:rPr>
              <a:t> 1.Fie mulţimea M=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{1,2,3,4}. Alc</a:t>
            </a:r>
            <a:r>
              <a:rPr b="0" lang="ro-RO" sz="2800" spc="-1" strike="noStrike">
                <a:solidFill>
                  <a:srgbClr val="ffffcc"/>
                </a:solidFill>
                <a:latin typeface="Times New Roman"/>
              </a:rPr>
              <a:t>ătuiţi tabla operaţiei pentru x</a:t>
            </a:r>
            <a:r>
              <a:rPr b="0" lang="ro-RO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◦y=max(x,y) şi identificaţi proprietăţil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24200" y="1905120"/>
            <a:ext cx="3979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eaeaea"/>
                </a:solidFill>
                <a:latin typeface="Times New Roman"/>
              </a:rPr>
              <a:t>este asociativă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eaeaea"/>
                </a:solidFill>
                <a:latin typeface="Times New Roman"/>
              </a:rPr>
              <a:t>este comutativă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eaeaea"/>
                </a:solidFill>
                <a:latin typeface="Times New Roman"/>
              </a:rPr>
              <a:t>are element neutru pe 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eaeaea"/>
                </a:solidFill>
                <a:latin typeface="Times New Roman"/>
              </a:rPr>
              <a:t>toate elementele sunt simetrizabile adic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’=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2’=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3’=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4’=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62040" y="1905120"/>
          <a:ext cx="3333600" cy="3755880"/>
        </p:xfrm>
        <a:graphic>
          <a:graphicData uri="http://schemas.openxmlformats.org/drawingml/2006/table">
            <a:tbl>
              <a:tblPr/>
              <a:tblGrid>
                <a:gridCol w="666720"/>
                <a:gridCol w="666720"/>
                <a:gridCol w="666720"/>
                <a:gridCol w="666720"/>
                <a:gridCol w="666720"/>
              </a:tblGrid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◦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Aplica</a:t>
            </a:r>
            <a:r>
              <a:rPr b="0" i="1" lang="ro-RO" sz="2800" spc="-1" strike="noStrike">
                <a:solidFill>
                  <a:srgbClr val="ffffcc"/>
                </a:solidFill>
                <a:latin typeface="Times New Roman"/>
              </a:rPr>
              <a:t>ţie 2.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o-RO" sz="2800" spc="-1" strike="noStrike">
                <a:solidFill>
                  <a:srgbClr val="ffffcc"/>
                </a:solidFill>
                <a:latin typeface="Times New Roman"/>
              </a:rPr>
              <a:t>Fie mulţimea M=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{</a:t>
            </a:r>
            <a:r>
              <a:rPr b="0" lang="ro-RO" sz="2800" spc="-1" strike="noStrike">
                <a:solidFill>
                  <a:srgbClr val="ffffcc"/>
                </a:solidFill>
                <a:latin typeface="Times New Roman"/>
              </a:rPr>
              <a:t>0,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,2,3</a:t>
            </a:r>
            <a:r>
              <a:rPr b="0" lang="ro-RO" sz="2800" spc="-1" strike="noStrike">
                <a:solidFill>
                  <a:srgbClr val="ffffcc"/>
                </a:solidFill>
                <a:latin typeface="Times New Roman"/>
              </a:rPr>
              <a:t>,4,5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}. Alc</a:t>
            </a:r>
            <a:r>
              <a:rPr b="0" lang="ro-RO" sz="2800" spc="-1" strike="noStrike">
                <a:solidFill>
                  <a:srgbClr val="ffffcc"/>
                </a:solidFill>
                <a:latin typeface="Times New Roman"/>
              </a:rPr>
              <a:t>ătuiţi tabla operaţiei </a:t>
            </a:r>
            <a:r>
              <a:rPr b="0" lang="ro-RO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şi identificaţi proprietăţile</a:t>
            </a:r>
            <a:r>
              <a:rPr b="0" lang="ro-RO" sz="2800" spc="-1" strike="noStrike">
                <a:solidFill>
                  <a:srgbClr val="ffffcc"/>
                </a:solidFill>
                <a:latin typeface="Times New Roman"/>
              </a:rPr>
              <a:t> pentru </a:t>
            </a:r>
            <a:br>
              <a:rPr sz="2800"/>
            </a:br>
            <a:r>
              <a:rPr b="0" lang="ro-RO" sz="28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0" lang="ro-RO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◦y=restul împărţirii lui xy la 6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24560" y="2276640"/>
            <a:ext cx="4124160" cy="374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aeaea"/>
                </a:solidFill>
                <a:latin typeface="Times New Roman"/>
              </a:rPr>
              <a:t>este asociativă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aeaea"/>
                </a:solidFill>
                <a:latin typeface="Times New Roman"/>
              </a:rPr>
              <a:t>este comutativă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aeaea"/>
                </a:solidFill>
                <a:latin typeface="Times New Roman"/>
              </a:rPr>
              <a:t>are element neutru pe 1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0,2,3</a:t>
            </a:r>
            <a:r>
              <a:rPr b="0" lang="ro-RO" sz="2800" spc="-1" strike="noStrike">
                <a:solidFill>
                  <a:srgbClr val="eaeaea"/>
                </a:solidFill>
                <a:latin typeface="Times New Roman"/>
              </a:rPr>
              <a:t> şi 4 nu sunt simetrizabile doar 1 şi 5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’=1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5’=5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62040" y="2205000"/>
          <a:ext cx="3549600" cy="3622680"/>
        </p:xfrm>
        <a:graphic>
          <a:graphicData uri="http://schemas.openxmlformats.org/drawingml/2006/table">
            <a:tbl>
              <a:tblPr/>
              <a:tblGrid>
                <a:gridCol w="507960"/>
                <a:gridCol w="506520"/>
                <a:gridCol w="507960"/>
                <a:gridCol w="504720"/>
                <a:gridCol w="507960"/>
                <a:gridCol w="506520"/>
                <a:gridCol w="507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◦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Aplica</a:t>
            </a:r>
            <a:r>
              <a:rPr b="0" i="1" lang="ro-RO" sz="2800" spc="-1" strike="noStrike">
                <a:solidFill>
                  <a:srgbClr val="ffffcc"/>
                </a:solidFill>
                <a:latin typeface="Times New Roman"/>
              </a:rPr>
              <a:t>ţie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3</a:t>
            </a:r>
            <a:r>
              <a:rPr b="0" i="1" lang="ro-RO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o-RO" sz="2800" spc="-1" strike="noStrike">
                <a:solidFill>
                  <a:srgbClr val="ffffcc"/>
                </a:solidFill>
                <a:latin typeface="Times New Roman"/>
              </a:rPr>
              <a:t>Fie mulţimea M=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{</a:t>
            </a:r>
            <a:r>
              <a:rPr b="0" lang="ro-RO" sz="2800" spc="-1" strike="noStrike">
                <a:solidFill>
                  <a:srgbClr val="ffffcc"/>
                </a:solidFill>
                <a:latin typeface="Times New Roman"/>
              </a:rPr>
              <a:t>0,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,2,3</a:t>
            </a:r>
            <a:r>
              <a:rPr b="0" lang="ro-RO" sz="2800" spc="-1" strike="noStrike">
                <a:solidFill>
                  <a:srgbClr val="ffffcc"/>
                </a:solidFill>
                <a:latin typeface="Times New Roman"/>
              </a:rPr>
              <a:t>,4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}. Alc</a:t>
            </a:r>
            <a:r>
              <a:rPr b="0" lang="ro-RO" sz="2800" spc="-1" strike="noStrike">
                <a:solidFill>
                  <a:srgbClr val="ffffcc"/>
                </a:solidFill>
                <a:latin typeface="Times New Roman"/>
              </a:rPr>
              <a:t>ătuiţi tabla operaţiei </a:t>
            </a:r>
            <a:r>
              <a:rPr b="0" lang="ro-RO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şi identificaţi proprietăţile</a:t>
            </a:r>
            <a:r>
              <a:rPr b="0" lang="ro-RO" sz="2800" spc="-1" strike="noStrike">
                <a:solidFill>
                  <a:srgbClr val="ffffcc"/>
                </a:solidFill>
                <a:latin typeface="Times New Roman"/>
              </a:rPr>
              <a:t> pentru x</a:t>
            </a:r>
            <a:r>
              <a:rPr b="0" lang="ro-RO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◦y=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|x-y|</a:t>
            </a:r>
            <a:r>
              <a:rPr b="0" lang="ro-RO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24560" y="1905120"/>
            <a:ext cx="4195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u este asociativ</a:t>
            </a:r>
            <a:r>
              <a:rPr b="0" lang="ro-RO" sz="2400" spc="-1" strike="noStrike">
                <a:solidFill>
                  <a:srgbClr val="eaeaea"/>
                </a:solidFill>
                <a:latin typeface="Times New Roman"/>
              </a:rPr>
              <a:t>ă pentru că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ro-RO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ro-RO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◦2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</a:t>
            </a:r>
            <a:r>
              <a:rPr b="0" lang="ro-RO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◦4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o-RO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≠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</a:t>
            </a:r>
            <a:r>
              <a:rPr b="0" lang="ro-RO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◦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2</a:t>
            </a:r>
            <a:r>
              <a:rPr b="0" lang="ro-RO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◦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4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ste comutativ</a:t>
            </a:r>
            <a:r>
              <a:rPr b="0" lang="ro-RO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ă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re element neutru pe 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oate elementele sunt simetrizabile adică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’=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’=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2’=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3’=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4’=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62040" y="1905120"/>
          <a:ext cx="3046320" cy="3684600"/>
        </p:xfrm>
        <a:graphic>
          <a:graphicData uri="http://schemas.openxmlformats.org/drawingml/2006/table">
            <a:tbl>
              <a:tblPr/>
              <a:tblGrid>
                <a:gridCol w="507960"/>
                <a:gridCol w="507960"/>
                <a:gridCol w="507960"/>
                <a:gridCol w="506520"/>
                <a:gridCol w="507960"/>
                <a:gridCol w="507960"/>
              </a:tblGrid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◦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Aplica</a:t>
            </a:r>
            <a:r>
              <a:rPr b="0" i="1" lang="ro-RO" sz="2800" spc="-1" strike="noStrike">
                <a:solidFill>
                  <a:srgbClr val="ffffcc"/>
                </a:solidFill>
                <a:latin typeface="Times New Roman"/>
              </a:rPr>
              <a:t>ţie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4</a:t>
            </a:r>
            <a:r>
              <a:rPr b="0" i="1" lang="ro-RO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o-RO" sz="2400" spc="-1" strike="noStrike">
                <a:solidFill>
                  <a:srgbClr val="ffffcc"/>
                </a:solidFill>
                <a:latin typeface="Times New Roman"/>
              </a:rPr>
              <a:t>Pe mulţimea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={1,2,3,4,5,6}</a:t>
            </a:r>
            <a:r>
              <a:rPr b="0" lang="ro-RO" sz="2400" spc="-1" strike="noStrike">
                <a:solidFill>
                  <a:srgbClr val="ffffcc"/>
                </a:solidFill>
                <a:latin typeface="Times New Roman"/>
              </a:rPr>
              <a:t> se defineşte legea de compoziţie cu următoarele proprietăţi: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x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◦y=x:y</a:t>
            </a:r>
            <a:r>
              <a:rPr b="0" lang="ro-RO" sz="2400" spc="-1" strike="noStrike">
                <a:solidFill>
                  <a:srgbClr val="ffffcc"/>
                </a:solidFill>
                <a:latin typeface="Times New Roman"/>
              </a:rPr>
              <a:t> , dacă x se divide prin y,</a:t>
            </a:r>
            <a:br>
              <a:rPr sz="2400"/>
            </a:br>
            <a:r>
              <a:rPr b="0" lang="ro-RO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◦y=y:x</a:t>
            </a:r>
            <a:r>
              <a:rPr b="0" lang="ro-RO" sz="2400" spc="-1" strike="noStrike">
                <a:solidFill>
                  <a:srgbClr val="ffffcc"/>
                </a:solidFill>
                <a:latin typeface="Times New Roman"/>
              </a:rPr>
              <a:t> , dacă  y se divide prin x,</a:t>
            </a:r>
            <a:br>
              <a:rPr sz="2400"/>
            </a:br>
            <a:r>
              <a:rPr b="0" i="1" lang="ro-RO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o-RO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0" lang="ro-RO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◦y=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|x-y|</a:t>
            </a:r>
            <a:r>
              <a:rPr b="0" i="1" lang="ro-RO" sz="2400" spc="-1" strike="noStrike">
                <a:solidFill>
                  <a:srgbClr val="ffffcc"/>
                </a:solidFill>
                <a:latin typeface="Times New Roman"/>
              </a:rPr>
              <a:t> ,  </a:t>
            </a:r>
            <a:r>
              <a:rPr b="0" lang="ro-RO" sz="2400" spc="-1" strike="noStrike">
                <a:solidFill>
                  <a:srgbClr val="ffffcc"/>
                </a:solidFill>
                <a:latin typeface="Times New Roman"/>
              </a:rPr>
              <a:t>în caz contr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2920" y="2205000"/>
            <a:ext cx="4032360" cy="382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u este asociativ</a:t>
            </a:r>
            <a:r>
              <a:rPr b="0" lang="ro-RO" sz="2800" spc="-1" strike="noStrike">
                <a:solidFill>
                  <a:srgbClr val="eaeaea"/>
                </a:solidFill>
                <a:latin typeface="Times New Roman"/>
              </a:rPr>
              <a:t>ă pentru că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ro-RO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ro-RO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◦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3)</a:t>
            </a:r>
            <a:r>
              <a:rPr b="0" lang="ro-RO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◦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4≠2</a:t>
            </a:r>
            <a:r>
              <a:rPr b="0" lang="ro-RO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◦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3</a:t>
            </a:r>
            <a:r>
              <a:rPr b="0" lang="ro-RO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◦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4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ste comutativ</a:t>
            </a:r>
            <a:r>
              <a:rPr b="0" lang="ro-RO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ă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re element neutru pe 1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lementele sunt simetrizabile dar nu au simetric unic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62040" y="2060640"/>
          <a:ext cx="3478320" cy="3889440"/>
        </p:xfrm>
        <a:graphic>
          <a:graphicData uri="http://schemas.openxmlformats.org/drawingml/2006/table">
            <a:tbl>
              <a:tblPr/>
              <a:tblGrid>
                <a:gridCol w="496800"/>
                <a:gridCol w="496800"/>
                <a:gridCol w="497160"/>
                <a:gridCol w="496800"/>
                <a:gridCol w="496800"/>
                <a:gridCol w="496800"/>
                <a:gridCol w="497160"/>
              </a:tblGrid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◦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92360" y="228600"/>
            <a:ext cx="7299360" cy="176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plica</a:t>
            </a:r>
            <a:r>
              <a:rPr b="0" lang="ro-RO" sz="2800" spc="-1" strike="noStrike">
                <a:solidFill>
                  <a:srgbClr val="ffffcc"/>
                </a:solidFill>
                <a:latin typeface="Times New Roman"/>
              </a:rPr>
              <a:t>ţie 5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e mul</a:t>
            </a:r>
            <a:r>
              <a:rPr b="0" lang="ro-RO" sz="2800" spc="-1" strike="noStrike">
                <a:solidFill>
                  <a:srgbClr val="ffffcc"/>
                </a:solidFill>
                <a:latin typeface="Times New Roman"/>
              </a:rPr>
              <a:t>ţimea M=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{f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, f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, f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, f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} </a:t>
            </a:r>
            <a:r>
              <a:rPr b="0" lang="ro-RO" sz="2800" spc="-1" strike="noStrike">
                <a:solidFill>
                  <a:srgbClr val="ffffcc"/>
                </a:solidFill>
                <a:latin typeface="Times New Roman"/>
              </a:rPr>
              <a:t>unde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, f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, f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, f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ro-RO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\{0}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x)=x, f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x)=1/x, f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x)=-x, f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x)=-1/ </a:t>
            </a:r>
            <a:r>
              <a:rPr b="0" lang="ro-RO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împreună cu operaţia de compunere a funcţiilo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r>
              <a:rPr b="0" lang="ro-RO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Alcătuiţi tabla operaţiei şi identificaţi proprietăţile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1640" y="2707920"/>
            <a:ext cx="3979800" cy="367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aeaea"/>
                </a:solidFill>
                <a:latin typeface="Times New Roman"/>
              </a:rPr>
              <a:t>este asociativă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aeaea"/>
                </a:solidFill>
                <a:latin typeface="Times New Roman"/>
              </a:rPr>
              <a:t>este comutativă deşi în general compunerea funcţiilor nu este comutativă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aeaea"/>
                </a:solidFill>
                <a:latin typeface="Times New Roman"/>
              </a:rPr>
              <a:t>are element neutru pe f</a:t>
            </a:r>
            <a:r>
              <a:rPr b="0" lang="ro-RO" sz="2800" spc="-1" strike="noStrike" baseline="-25000">
                <a:solidFill>
                  <a:srgbClr val="eaeaea"/>
                </a:solidFill>
                <a:latin typeface="Times New Roman"/>
              </a:rPr>
              <a:t>1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aeaea"/>
                </a:solidFill>
                <a:latin typeface="Times New Roman"/>
              </a:rPr>
              <a:t>toate elementele sunt simetrizabi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4360" y="2708280"/>
          <a:ext cx="3333600" cy="3584520"/>
        </p:xfrm>
        <a:graphic>
          <a:graphicData uri="http://schemas.openxmlformats.org/drawingml/2006/table">
            <a:tbl>
              <a:tblPr/>
              <a:tblGrid>
                <a:gridCol w="666720"/>
                <a:gridCol w="666720"/>
                <a:gridCol w="666720"/>
                <a:gridCol w="666720"/>
                <a:gridCol w="666720"/>
              </a:tblGrid>
              <a:tr h="70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◦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</a:t>
                      </a:r>
                      <a:r>
                        <a:rPr b="0" lang="ro-RO" sz="2800" spc="-1" strike="noStrike" baseline="-25000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</a:t>
                      </a:r>
                      <a:r>
                        <a:rPr b="0" lang="ro-RO" sz="2800" spc="-1" strike="noStrike" baseline="-25000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</a:t>
                      </a:r>
                      <a:r>
                        <a:rPr b="0" lang="ro-RO" sz="2800" spc="-1" strike="noStrike" baseline="-25000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</a:t>
                      </a:r>
                      <a:r>
                        <a:rPr b="0" lang="ro-RO" sz="2800" spc="-1" strike="noStrike" baseline="-25000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</a:t>
                      </a:r>
                      <a:r>
                        <a:rPr b="0" lang="ro-RO" sz="2800" spc="-1" strike="noStrike" baseline="-25000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</a:t>
                      </a:r>
                      <a:r>
                        <a:rPr b="0" lang="ro-RO" sz="2800" spc="-1" strike="noStrike" baseline="-25000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</a:t>
                      </a:r>
                      <a:r>
                        <a:rPr b="0" lang="ro-RO" sz="2800" spc="-1" strike="noStrike" baseline="-25000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</a:t>
                      </a:r>
                      <a:r>
                        <a:rPr b="0" lang="ro-RO" sz="2800" spc="-1" strike="noStrike" baseline="-25000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</a:t>
                      </a:r>
                      <a:r>
                        <a:rPr b="0" lang="ro-RO" sz="2800" spc="-1" strike="noStrike" baseline="-25000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</a:t>
                      </a:r>
                      <a:r>
                        <a:rPr b="0" lang="ro-RO" sz="2800" spc="-1" strike="noStrike" baseline="-25000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</a:t>
                      </a:r>
                      <a:r>
                        <a:rPr b="0" lang="ro-RO" sz="2800" spc="-1" strike="noStrike" baseline="-25000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</a:t>
                      </a:r>
                      <a:r>
                        <a:rPr b="0" lang="ro-RO" sz="2800" spc="-1" strike="noStrike" baseline="-25000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</a:t>
                      </a:r>
                      <a:r>
                        <a:rPr b="0" lang="ro-RO" sz="2800" spc="-1" strike="noStrike" baseline="-25000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</a:t>
                      </a:r>
                      <a:r>
                        <a:rPr b="0" lang="ro-RO" sz="2800" spc="-1" strike="noStrike" baseline="-25000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</a:t>
                      </a:r>
                      <a:r>
                        <a:rPr b="0" lang="ro-RO" sz="2800" spc="-1" strike="noStrike" baseline="-25000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</a:t>
                      </a:r>
                      <a:r>
                        <a:rPr b="0" lang="ro-RO" sz="2800" spc="-1" strike="noStrike" baseline="-25000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</a:t>
                      </a:r>
                      <a:r>
                        <a:rPr b="0" lang="ro-RO" sz="2800" spc="-1" strike="noStrike" baseline="-25000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</a:t>
                      </a:r>
                      <a:r>
                        <a:rPr b="0" lang="ro-RO" sz="2800" spc="-1" strike="noStrike" baseline="-25000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</a:t>
                      </a:r>
                      <a:r>
                        <a:rPr b="0" lang="ro-RO" sz="2800" spc="-1" strike="noStrike" baseline="-25000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</a:t>
                      </a:r>
                      <a:r>
                        <a:rPr b="0" lang="ro-RO" sz="2800" spc="-1" strike="noStrike" baseline="-25000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aeae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</a:t>
                      </a:r>
                      <a:r>
                        <a:rPr b="0" lang="ro-RO" sz="2800" spc="-1" strike="noStrike" baseline="-25000">
                          <a:solidFill>
                            <a:srgbClr val="eaeaea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</a:t>
                      </a:r>
                      <a:r>
                        <a:rPr b="0" lang="ro-RO" sz="2800" spc="-1" strike="noStrike" baseline="-25000">
                          <a:solidFill>
                            <a:srgbClr val="eaeaea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</a:t>
                      </a:r>
                      <a:r>
                        <a:rPr b="0" lang="ro-RO" sz="2800" spc="-1" strike="noStrike" baseline="-25000">
                          <a:solidFill>
                            <a:srgbClr val="eaeaea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f</a:t>
                      </a:r>
                      <a:r>
                        <a:rPr b="0" lang="ro-RO" sz="2800" spc="-1" strike="noStrike" baseline="-25000">
                          <a:solidFill>
                            <a:srgbClr val="eaeaea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05:59:18Z</dcterms:created>
  <dc:creator>cursant</dc:creator>
  <dc:description/>
  <dc:language>en-US</dc:language>
  <cp:lastModifiedBy>cursant</cp:lastModifiedBy>
  <dcterms:modified xsi:type="dcterms:W3CDTF">2010-09-03T07:38:21Z</dcterms:modified>
  <cp:revision>5</cp:revision>
  <dc:subject/>
  <dc:title>Tabla unei operaţii</dc:title>
</cp:coreProperties>
</file>